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19B-9524-4B21-A48D-78379431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2A2-D0F3-4226-9D89-5441C33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4ED-F900-49E0-A720-ADD82C30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4B9-927D-41D5-9BE7-B9EFAC9D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260-6823-452F-96DF-4A2B8F0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67D-3C4E-436D-A2EA-BA33201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D7B-2D86-4E8E-8059-1E7386A7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D98-9850-42ED-B8B9-B52B7425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726-F78C-4811-850A-9E41B76E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3EE-A5DF-40EC-9107-3F05F9E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779-F184-42B3-8B77-980674EC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D84-7C71-4C7E-AEDB-F3585B56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8BF0-30B1-4487-A4D7-B7D38425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8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have a p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形标注 8"/>
          <p:cNvSpPr/>
          <p:nvPr/>
        </p:nvSpPr>
        <p:spPr>
          <a:xfrm>
            <a:off x="4648320" y="2362320"/>
            <a:ext cx="4343400" cy="1407960"/>
          </a:xfrm>
          <a:prstGeom prst="wedgeEllipseCallout">
            <a:avLst>
              <a:gd name="adj1" fmla="val -23111"/>
              <a:gd name="adj2" fmla="val 6752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07960" y="3287880"/>
            <a:ext cx="2049480" cy="259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1942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n anim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形标注 8"/>
          <p:cNvSpPr/>
          <p:nvPr/>
        </p:nvSpPr>
        <p:spPr>
          <a:xfrm>
            <a:off x="4648320" y="2362320"/>
            <a:ext cx="4343400" cy="1407960"/>
          </a:xfrm>
          <a:prstGeom prst="wedgeEllipseCallout">
            <a:avLst>
              <a:gd name="adj1" fmla="val -23111"/>
              <a:gd name="adj2" fmla="val 6752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194292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67" name="矩形标注 1"/>
          <p:cNvSpPr/>
          <p:nvPr/>
        </p:nvSpPr>
        <p:spPr>
          <a:xfrm>
            <a:off x="3219480" y="2971800"/>
            <a:ext cx="5562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du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19670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72" name="矩形标注 1"/>
          <p:cNvSpPr/>
          <p:nvPr/>
        </p:nvSpPr>
        <p:spPr>
          <a:xfrm>
            <a:off x="3219480" y="2971800"/>
            <a:ext cx="5562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c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"/>
          <p:cNvPicPr/>
          <p:nvPr/>
        </p:nvPicPr>
        <p:blipFill>
          <a:blip r:embed="rId3"/>
          <a:stretch/>
        </p:blipFill>
        <p:spPr>
          <a:xfrm>
            <a:off x="2803680" y="4419720"/>
            <a:ext cx="20574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标注 9"/>
          <p:cNvSpPr/>
          <p:nvPr/>
        </p:nvSpPr>
        <p:spPr>
          <a:xfrm>
            <a:off x="282600" y="1447920"/>
            <a:ext cx="4952880" cy="122076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76" name="矩形标注 1"/>
          <p:cNvSpPr/>
          <p:nvPr/>
        </p:nvSpPr>
        <p:spPr>
          <a:xfrm>
            <a:off x="3219480" y="2971800"/>
            <a:ext cx="56959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rabb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2"/>
          <a:stretch/>
        </p:blipFill>
        <p:spPr>
          <a:xfrm>
            <a:off x="3048120" y="4363920"/>
            <a:ext cx="163656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4986360" y="4495680"/>
            <a:ext cx="1779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82" name="矩形标注 1"/>
          <p:cNvSpPr/>
          <p:nvPr/>
        </p:nvSpPr>
        <p:spPr>
          <a:xfrm>
            <a:off x="4495680" y="2971800"/>
            <a:ext cx="34099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yell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19670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87" name="矩形标注 1"/>
          <p:cNvSpPr/>
          <p:nvPr/>
        </p:nvSpPr>
        <p:spPr>
          <a:xfrm>
            <a:off x="5029200" y="2793960"/>
            <a:ext cx="297180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blu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3"/>
          <a:stretch/>
        </p:blipFill>
        <p:spPr>
          <a:xfrm>
            <a:off x="2895480" y="3835440"/>
            <a:ext cx="19306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标注 9"/>
          <p:cNvSpPr/>
          <p:nvPr/>
        </p:nvSpPr>
        <p:spPr>
          <a:xfrm>
            <a:off x="304920" y="1141560"/>
            <a:ext cx="601956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he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92" name="矩形标注 1"/>
          <p:cNvSpPr/>
          <p:nvPr/>
        </p:nvSpPr>
        <p:spPr>
          <a:xfrm>
            <a:off x="4267080" y="2793960"/>
            <a:ext cx="4419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the d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3"/>
          <a:srcRect l="0" t="0" r="0" b="14085"/>
          <a:stretch/>
        </p:blipFill>
        <p:spPr>
          <a:xfrm>
            <a:off x="3000240" y="4191120"/>
            <a:ext cx="20448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圆角矩形标注 9"/>
          <p:cNvSpPr/>
          <p:nvPr/>
        </p:nvSpPr>
        <p:spPr>
          <a:xfrm>
            <a:off x="304920" y="1141560"/>
            <a:ext cx="63244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he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标注 1"/>
          <p:cNvSpPr/>
          <p:nvPr/>
        </p:nvSpPr>
        <p:spPr>
          <a:xfrm>
            <a:off x="3200400" y="2793960"/>
            <a:ext cx="571500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don’t like snak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971800" y="4354560"/>
            <a:ext cx="20574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33520" y="3327480"/>
            <a:ext cx="1904760" cy="330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559480" y="4329000"/>
            <a:ext cx="17794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8377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22856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将重点词汇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，重点句型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同桌将本课对话进行多次操练，直至熟练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词汇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3" descr=""/>
          <p:cNvPicPr/>
          <p:nvPr/>
        </p:nvPicPr>
        <p:blipFill>
          <a:blip r:embed="rId1"/>
          <a:stretch/>
        </p:blipFill>
        <p:spPr>
          <a:xfrm>
            <a:off x="1682640" y="2712960"/>
            <a:ext cx="57722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2285640"/>
            <a:ext cx="28954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3243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00240" y="228600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co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1062000" y="187632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7440" y="22860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120" y="2438280"/>
            <a:ext cx="2971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宋体"/>
              </a:rPr>
              <a:t>duck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rcRect l="7315" t="-1867" r="2721" b="8504"/>
          <a:stretch/>
        </p:blipFill>
        <p:spPr>
          <a:xfrm>
            <a:off x="914400" y="1306440"/>
            <a:ext cx="383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81120" y="24379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turtl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"/>
          <p:cNvPicPr/>
          <p:nvPr/>
        </p:nvPicPr>
        <p:blipFill>
          <a:blip r:embed="rId1"/>
          <a:srcRect l="0" t="0" r="0" b="4252"/>
          <a:stretch/>
        </p:blipFill>
        <p:spPr>
          <a:xfrm>
            <a:off x="1081080" y="1981080"/>
            <a:ext cx="41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24379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snak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523880" y="1765440"/>
            <a:ext cx="36576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对话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Dialo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0:33:09Z</dcterms:created>
  <dc:creator/>
  <dc:description/>
  <dc:language>en-US</dc:language>
  <cp:lastModifiedBy/>
  <dcterms:modified xsi:type="dcterms:W3CDTF">2015-07-21T05:20:11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